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77075" cy="8956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C25-EBD9-4561-A5DC-B3EE2FBB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13C-D5C2-4186-B561-1EF21E1E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475-1DEB-4802-8DCF-501A99B0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7B4-E5A4-4D13-BA43-C61B67AF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2BC7-FF1F-49FC-98CD-6F8421D0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83F0-2AF0-4A12-8911-1EE6B96C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4020-A04F-4334-A12A-F3012409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35D1-31AE-446F-B564-B4066B96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F324-AD38-4FE6-A129-AF1E5C26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FACF-D366-4D9A-92CB-BA8656AA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0FA5-1991-4692-BE28-C3ECFA15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7AE-BF4B-4773-9CCB-C91CEC37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73A3-1792-490F-A369-5CEE3CBA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B1C9-962A-4A7D-9B58-63808865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676D-48E8-4AE3-AA9F-84B23B53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3147-84A0-44D5-BDEC-25D43C4F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C707-3463-48A3-AC15-FC24A94D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ABC-5B67-480B-B28F-7A29BFFE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A11-DC52-440B-A314-431AD7D4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AA0-9BDB-4F11-A9E1-A92AEFC0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260-C5DF-43F9-AF33-5D7D8AF7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4AC-2B8A-4774-B746-5FC614B8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AAF-ED90-40A4-882F-6CB7EEC7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A6D-B32E-49EC-AF29-A74FDD5B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9092-A9FD-4BE0-B864-3102F35650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21E8-DD3D-4B8F-AA92-2A11DABBEE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ool Improvement Plans 2008-09 Revi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 Development 2008-09 Gu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ublic Schools in 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Empha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II. Monitoring and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Include program activities to support students having difficulties and also how teachers can base the effectiveness of these strategies and interven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X. Fiscal Requir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Clearly show how fiscal resources are being allocated to help support the SIP (ex: line ite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 Ongoing Progra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In the 2 year pl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timeframe followed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og of revisions is k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used to monitor implementation of the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*Evaluation of the S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valuation chart submitted as a part of the S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the plan for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 the plan implemented as 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 the plan ef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ool Level P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Must have a Table of Contents with page numbers li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Include the location of elements required by regulations (for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ool Level Plan Approv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submitted to the SST for recommendation of appro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val by the L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 I schools submit plan &amp; eval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er Revie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recommended yea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required if it is the initial plan or the school has moved up a level in 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D Accountability Workbook 6/08 USDOE Appro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endments to Critical El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Accountability System – 10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Public Schools (both Title I &amp; non Title 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the School Improvement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Emphasis &amp; Considerations for 08-0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. Plan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SI Planning Framework document -Parent(s) not employed by the distr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Document leadership team timeline &amp; r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Stated mission and 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. Comprehensive Needs Assess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Data analysis, minimum reading and math modules for SW &amp; accreditation purpo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 facili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form (where have you been, where are you and what are the next ste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areas that put school into 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both state and local assess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 Goals, Objectives, and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Tie in SBR in with strategies to reach goals specific to all grades and subgroups in the sch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Specific measurable objectives that meet the AMO, Safe Harbor, or Confidence Interval allow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Indicators that judge effectiveness no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V. Highly Qualified Sta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Indicate strategies for both recruitment and placement of HQ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. Profession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Schools in improvement link PD plan to area(s) that put the school into improvement and identified stud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Articulate an implemented teacher mentoring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. Parent Involvement &amp; Edu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Indicate strategies to increase parent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Document parental input into the S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Describe what PD is being provided for par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I. Trans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Include plan strategies both into the level and exit to the next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Include Special Edu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5:00:37Z</dcterms:created>
  <dc:creator>HP Authorized Customer</dc:creator>
  <dc:description/>
  <dc:language>en-US</dc:language>
  <cp:lastModifiedBy>HP Authorized Customer</cp:lastModifiedBy>
  <dcterms:modified xsi:type="dcterms:W3CDTF">2008-09-09T18:49:46Z</dcterms:modified>
  <cp:revision>13</cp:revision>
  <dc:subject/>
  <dc:title>School Improvement Plans 2008-09 Revisions</dc:title>
</cp:coreProperties>
</file>